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B893-6FAA-4AF7-9C71-2584370F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7DE-640C-4066-A7C5-990216B6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12F6-EDC5-4742-80BB-F54E06BF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CF8F-7F0B-4E33-952D-F33A218E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6CA7-B346-4C04-82E9-0D09FBC7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783-9599-4FBA-AC9F-CE234D06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DFB-34BA-4B88-85EB-1442E7AE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9FA-3AF6-4FD6-8C41-3549F396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C8C8-8BA5-4BAD-A16D-EB877CCC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DAD5-367B-4DEA-9828-7FFD1EB7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307-C45F-428A-A357-5C682AC6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4B9-732B-447E-BDA1-6D5ED4FB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2DC6-B66F-4F9D-BCED-FE7332861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24280" y="0"/>
            <a:ext cx="441972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سوعي، يا إله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نبوعي اللامتنا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حيات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وجود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ك صلاتي وعهو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لك أُقدم ذا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26329886SKrDwSrIIf_ph" descr=""/>
          <p:cNvPicPr/>
          <p:nvPr/>
        </p:nvPicPr>
        <p:blipFill>
          <a:blip r:embed="rId1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653256EdbXgQadtT_ph" descr=""/>
          <p:cNvPicPr/>
          <p:nvPr/>
        </p:nvPicPr>
        <p:blipFill>
          <a:blip r:embed="rId1"/>
          <a:stretch/>
        </p:blipFill>
        <p:spPr>
          <a:xfrm>
            <a:off x="-3657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8120" y="0"/>
            <a:ext cx="6095880" cy="62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هٌ من إله يسوعُ المج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إنه ابنُ الله ابنُهُ الوح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نزلَ من السم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صارَ انسانا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ُلِد من العذر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زارَ دُنيان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ا يسوعُ إلهي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 أُقدمُ ذاتي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724280" y="0"/>
            <a:ext cx="441972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سوعي، يا إله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نبوعي اللامتنا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حيات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وجود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ك صلاتي وعهو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لك أُقدم ذا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26329886SKrDwSrIIf_ph" descr=""/>
          <p:cNvPicPr/>
          <p:nvPr/>
        </p:nvPicPr>
        <p:blipFill>
          <a:blip r:embed="rId1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220153ufSbGEcTWm_ph" descr=""/>
          <p:cNvPicPr/>
          <p:nvPr/>
        </p:nvPicPr>
        <p:blipFill>
          <a:blip r:embed="rId1"/>
          <a:stretch/>
        </p:blipFill>
        <p:spPr>
          <a:xfrm>
            <a:off x="2438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304920" y="-98280"/>
            <a:ext cx="2667240" cy="9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ورٌ من ن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ربنُا يس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شمسُ الده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هيُّ الطل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زلَ إلى القب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زارَ موتا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زَّقَ الديج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قامَ أحيا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2960" y="6216480"/>
            <a:ext cx="83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ا يسوعُ إله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 أُقدمُ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724280" y="0"/>
            <a:ext cx="441972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سوعي، يا إله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نبوعي اللامتنا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حيات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وجود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ك صلاتي وعهو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لك أُقدم ذا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26329886SKrDwSrIIf_ph" descr=""/>
          <p:cNvPicPr/>
          <p:nvPr/>
        </p:nvPicPr>
        <p:blipFill>
          <a:blip r:embed="rId1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7112962IYqlIRsJHe_ph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15000" y="0"/>
            <a:ext cx="3429000" cy="89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ساوٍ للآ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جوهَرُ يسوع وقلبُهُ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قد ذاب بحبنِا وُل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سوعُ في القربان قوتُنا الأشه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نُهى الأزما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جدُنا الأبه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ا يسوعُ إله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 أُقدمُ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24280" y="0"/>
            <a:ext cx="441972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سوعي، يا إله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نبوعي اللامتنا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حيات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وجود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ك صلاتي وعهو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لك أُقدم ذا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26329886SKrDwSrIIf_ph" descr=""/>
          <p:cNvPicPr/>
          <p:nvPr/>
        </p:nvPicPr>
        <p:blipFill>
          <a:blip r:embed="rId1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0:41:19Z</dcterms:created>
  <dc:creator>USER</dc:creator>
  <dc:description/>
  <dc:language>en-US</dc:language>
  <cp:lastModifiedBy>USER</cp:lastModifiedBy>
  <dcterms:modified xsi:type="dcterms:W3CDTF">2003-01-20T00:39:13Z</dcterms:modified>
  <cp:revision>4</cp:revision>
  <dc:subject/>
  <dc:title>PowerPoint Presentation</dc:title>
</cp:coreProperties>
</file>